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C81-7615-41CD-AFF3-B08E0722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095A-E479-4CE5-AA1E-715AFA1037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A7E-A3CE-442D-8C75-1EBA33AF76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9394-21D9-4EED-B102-2174BFCD42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9C6-250F-409C-940E-010060CA58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D98-C22E-4522-9F2C-9DF5E4B66E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8A5-D661-48B9-B44D-BA3075AA3C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C43-F465-4651-9FE0-45EC7918C1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7230-444B-423F-8FC3-6039378846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1474-FBFC-4884-9FFE-052B88F945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FD4-4D48-4380-803D-FEC5470014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85C-CC24-4994-9BE3-6598F929F1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732-D5B2-4E4D-938F-41B5E495C5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D118-5FBD-4148-9890-66BB2A0B62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316-02D9-4233-9537-F6298D9A6E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E25A-1A3E-4DE4-904B-6E071BE543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ABE7-FAEB-4238-ACDA-89A6DE36FB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5B07-0DC9-44E1-A077-CC651EC2BD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057-5938-45B2-9407-45AC305618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E12-FB80-454E-A251-BC88D7634C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56B-8125-4602-AE09-9FBA49A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B6C-3BB7-43F5-8B44-42FF561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02A-CD48-40A5-A17D-8776D86F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75D-38D2-4889-B538-33420F39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383-736B-46C4-B3A9-8FEF9A3C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AB5-A52D-4CF3-B34E-F45A99B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AA91-A51B-4C54-9BAA-BB855FD8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556-0834-4353-8140-76A1D34A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2CAE-44B7-4B6D-9528-D28C899E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E52-65C2-440A-BD1D-76B905C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2AD-EDA2-4909-A623-3C6ED10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22E-25E9-476E-8B22-C778995C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15B-48FD-4C6E-8F3D-2BCEA9C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927A-FEF0-4933-84B9-96EC20B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FB6-0131-4709-8EF1-13D5105B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F8B6-259F-4B87-B357-CA88B9B0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6394-CF27-4711-B046-5A5268B3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3888-42B7-4BD8-942C-E206DC82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D6FF-7748-4905-A7EF-3D22B8F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F4D7-54BA-48B8-AF49-BE75B7C1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05E9-2158-43BB-9414-22B75937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2722-3653-4361-83F2-9DC3B1C1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C3F-0A87-46D3-8D68-8F48EA8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7BA5-284B-483D-A2EA-97F13598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0FB6-FB40-463E-999C-7412150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7903-72CF-43CF-A53F-40F2C4D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C7F8-1F2B-4150-86EB-E68C877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CB40-B2CE-426D-ACCF-EC2E116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8F7F-3D4D-4758-B90B-E09CD625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B325-4E71-4D11-B5D8-CE882A66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0CA6-DE1A-4E06-BD13-932AC4BD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BD34-1C9C-4218-B26F-3ED62B5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DD0B-F00E-4E43-940A-86B48C1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0F3-D056-4E4F-80A1-E0F8BEB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056B-5799-437D-ADC2-C2B06FFA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33D7-122E-4FA9-8620-F243C25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F87A-2A7B-4AE5-A789-DB9A69B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1694-E7D3-4BA2-AB49-171FC44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E559-574F-458B-A0BA-50C1678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1C06-E80A-4681-94A1-3249753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52C4-ED9E-46ED-80CA-0ED592D8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AB80-E0FA-49A0-8B0F-DC6792E3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0D66-6874-41D2-9395-7C05C16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D08C-A242-4485-ABAE-28A97271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15E-F6A2-4BE3-A7FE-88B817D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6DDC-C395-4C30-80C1-5D96CEA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9849-2155-4F26-8BB7-5DB2E5C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F84C-BBB7-4629-9370-AE64462E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2CA7-EBA4-473D-9B6E-D1600F9E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6836-31E2-4B9F-B1E3-D3BA154C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4CF7-84A8-4DAB-8C94-DF4DE4F3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4C22-67A7-49D5-825B-1C12699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796E-695C-47DE-89B3-2D8F738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1BA7-C238-4862-9815-F6A79589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33114-30A8-408C-BF84-ED268673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9EA-4ABB-4A7D-8553-DDFABE24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BCED-25BE-4E70-82B4-20CA3353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E821-D923-45ED-BC21-DB5A3688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026E-64AF-4F48-BDC7-6F3A518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8CCC-B3BE-49C6-8627-2467B3FF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FE7F-10CE-42BB-B3B0-376DB86E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81046-3617-4495-ACC6-A23CA86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C3DE-6CF3-43A6-A92E-7277109C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263E-09CB-44E7-8664-3BA1B3A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5C16-A652-438B-820E-0794F98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608A-2823-46D1-95DB-718198F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808-15AA-45F9-B9A0-4B03993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1E91-C5F0-468B-BFEB-6FC57D0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1832-D147-4D67-9A33-9C89503E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55A0-EE0F-4EFD-ADE2-DD62E830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1B95-C66D-428E-972B-D7FB620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CB9C-3F43-46A1-A1DD-3C3C651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614C8-3D4A-4E95-97D7-C78D6D7B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5E22-1D18-41ED-85E0-3D6756F7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EBA5-21D3-4649-A59B-A247713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3CF3-CDE8-4E23-A795-8E95A40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A98A-2DCE-4293-86E0-989D5AA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1B4-4674-4E9A-BAB2-4653185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C82AB-FF59-4A37-9B83-9F68A90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E399-C9F2-47A9-8DE8-87E7148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3A48-4E5C-463E-AA5F-B89D5057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D83F-FB7F-4B5C-B48F-8CF5A1C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5CB1-9CBA-4ACE-80E1-7AC20D5C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6AA-A582-48FF-871D-CDBAF35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118-E5A6-4B6C-8275-C432A083B3A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4C67-1990-46EC-825E-AA49CD0B974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D666-3FA9-4E82-8387-D88B59413B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177-A87C-4BEF-B27F-B08712F6496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00B-150D-4BCD-940C-69AE92B5B4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CD5-2B9B-4D8D-A83E-C50D5FF38F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E3A4-DF7E-4BC5-9D44-3ECDAC54BF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1420920"/>
            <a:ext cx="7785000" cy="190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Writting_books"/>
          <p:cNvPicPr/>
          <p:nvPr/>
        </p:nvPicPr>
        <p:blipFill>
          <a:blip r:embed="rId2"/>
          <a:stretch/>
        </p:blipFill>
        <p:spPr>
          <a:xfrm>
            <a:off x="3733920" y="2971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685800" y="611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Garo,C. (2007).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eaching educational technology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anila: Rex Publishing Company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aracens or the Arabs among the Moors of Sp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m of education was search for knowledge and the application of scientific facts to their daily liv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curriculum was the most organized and complete in the elementary, secondary, and collegiate leve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universities and libraries were the models in the entire Europe because they invented the printing pr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iginated the scientific method of tea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naissance Peri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rn times beg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es of concern: intellectual, aesthetic, and scientif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ements: humanism, disciplinism, and ration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tionalism: contributed to the development of educational technology especially along theories and pract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4" descr="Lady_MacBeth_2"/>
          <p:cNvPicPr/>
          <p:nvPr/>
        </p:nvPicPr>
        <p:blipFill>
          <a:blip r:embed="rId1"/>
          <a:stretch/>
        </p:blipFill>
        <p:spPr>
          <a:xfrm>
            <a:off x="7238880" y="30492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Locke: nature of the child’s mind at birth (tabula ras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ann Amos Comenius: developed the first picture book known as Orbis Pictus (The World in Picture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ioneer in instructional technology develop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ria Montessori: use of multi-sensory materials in tea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 of Natur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Jean Jacques Rousseau: authored the book Em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im of education was the preservation of the natural goodness of the individual and the formation of society based upon the recognition of natural individual righ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bartian Method of Teaching: preparation, presentation, comparison and abstraction, generalization and appl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stallozi: believed that teaching is more effective if it proceeds from concrete to abstract, hence the use of actual and real objects that involve most of the sen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ebel: father of kindergar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hasized the use of actual objects which could be manipulated by the lear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mmended the use of play and so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9</a:t>
            </a:r>
            <a:r>
              <a:rPr b="0" lang="en-US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Cent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Dewey: formulated the scientific theory of learning; pragmat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ward Thorndike: three laws of learning; connection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ved the way to the development of effective educational technology including the production of books, use of blackboards, and improvement of writing imple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graphy was invented giving way to a movement called visual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sual media became widely accepted in 19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dio-visual media texts was publish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26, educational films were used as instructional med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32, the first instructional TV program was aired at the State University of Iow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4" descr="TV"/>
          <p:cNvPicPr/>
          <p:nvPr/>
        </p:nvPicPr>
        <p:blipFill>
          <a:blip r:embed="rId1"/>
          <a:stretch/>
        </p:blipFill>
        <p:spPr>
          <a:xfrm>
            <a:off x="7315200" y="358128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6mm sound motion picture was developed\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the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orld War: movies, filmstrips, radio, and other pictorial devices were used in military train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grammed instruction by Skin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loom’s taxonomy of educational ob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odularized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i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ultimedia resources and computers in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tenance of an educational media c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sion and enrichment of curricular offerings to include courses in computer appl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CA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ultimedia presentations in the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al organizations are linking up with TE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Internet and E-mail for fast-paced interactive learning, communication, and search for in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 literacy programs for ISYs and OS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s became more user-friend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Ancient Civi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pointed sticks to inscript signs and symbols on the lea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knives to inscript signs and symbols on the bark of tre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gyptians (3100 B.C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ed a system of picture writing called hieroglyph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eroglyphics – may represent the objects for which they stand for or represent a sound or group of sou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ribes – group of men trained on the art of writing and came to be the country’s chronicler of event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457200" y="228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out 3100 B.C.  Devised a  a system of picture writ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209680" y="762120"/>
            <a:ext cx="44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6"/>
          <p:cNvSpPr txBox="1"/>
          <p:nvPr/>
        </p:nvSpPr>
        <p:spPr>
          <a:xfrm>
            <a:off x="45720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ecff"/>
                </a:solidFill>
                <a:latin typeface="Garamond"/>
              </a:rPr>
              <a:t>Represent the objects for which they stand for and represent a sound or group of soun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8382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ncient Gree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artan Education – emphasized the development of the physical body coupled with discip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Boy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exercises and activities that promoted bodily strength, endurance, and vit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ctivities: dancing, wrestling, horseback riding, swimming, gymnas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idonomus: the boys’ teacher; a military commander in the public barrack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irl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tayed at home with their mothers and were taught housekeep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the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rst to recognize the right of the individual to develop to the fu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lieved that the mind and the body has a strong relationsh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concern of music schools, grammar schools, and public gymnasiums / palaestra is developing the mind and the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phis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wandering schol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emphasized cognitive rules, systematic arrangement of subject matter, use of instructional technologies, design and implementation of effective instructiona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dieval E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stablishment of the Medieval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eror Frederick I of Bologna in 1158 chartered the first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grees offered were expanded which required students to engage in more in depth studies and to write their theses, defend them in public before the deans, facultas, and rec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51:21Z</dcterms:created>
  <dc:creator>User</dc:creator>
  <dc:description/>
  <dc:language>en-US</dc:language>
  <cp:lastModifiedBy>msu-iit</cp:lastModifiedBy>
  <dcterms:modified xsi:type="dcterms:W3CDTF">2011-06-28T03:45:28Z</dcterms:modified>
  <cp:revision>52</cp:revision>
  <dc:subject/>
  <dc:title>History of Educational Technology</dc:title>
</cp:coreProperties>
</file>